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E49-0DC3-4DDF-B621-54E925FD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CA8-8378-4347-9A70-60CB699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D38-CF2C-4111-953F-BB81E289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678-32FB-4F32-BA42-C9EB922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C816-2C1F-41FF-A84A-B7EE584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800-3A8E-4015-9A28-EA3BAC1D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9B61-2AA8-4693-B5D3-1B54A5F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DC18-A58E-45E7-9A49-8AB7CEB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966-4D53-4F25-8E95-7FF7CD7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6E41-C8DE-4539-8FE9-58E50CC9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517-57D4-43AF-A089-A67ADB6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8D6-B12F-4086-B919-98118211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6BB-8F8F-43E3-AE81-1F962D8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8FDB-739B-4E4C-99FA-23DEDAE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551-77D0-469B-83F1-94B6AF3E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96B-57CA-4106-A3E7-8F0567AE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6828-E7FE-42AD-914B-17BEBE94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795-174F-459C-8D6F-0A2F3E2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A04-6F42-48CD-8FBC-81FECC8E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1B3-70A8-41B2-8564-3562CF01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925-40F0-4EA1-9BDF-417DA7D7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625-0380-4534-A5FC-EABA3032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393-1F20-493E-94C7-0B9D2D4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C07-12EC-4C5E-80F5-48F1078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D13-8929-450E-97FF-23D5A34544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C6B-2791-417C-885C-39ACDB9720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How to Optimize A Stern Graduate’s Summer Brea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Lesson in Lei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024520"/>
            <a:ext cx="27432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ffrey Birnba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ya Br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ric B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l Cash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nica Wueb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inn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dney!!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3505320"/>
            <a:ext cx="8991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6868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n your optimal choice of vacation spots, what other cities would you lik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ows other cities that are similar to the optimal choi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etermine what factors lead to this choic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079960" y="4191120"/>
            <a:ext cx="2921040" cy="1879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0" t="0" r="0" b="17183"/>
          <a:stretch/>
        </p:blipFill>
        <p:spPr>
          <a:xfrm>
            <a:off x="1371600" y="4191120"/>
            <a:ext cx="3200400" cy="18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4760" y="611028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ntonville, 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4320" y="611028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rry Hill, 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419720" y="4114800"/>
            <a:ext cx="441936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371600"/>
            <a:ext cx="43434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66680" y="2286000"/>
            <a:ext cx="1447200" cy="1218600"/>
            <a:chOff x="1066680" y="2286000"/>
            <a:chExt cx="1447200" cy="1218600"/>
          </a:xfrm>
        </p:grpSpPr>
        <p:sp>
          <p:nvSpPr>
            <p:cNvPr id="231" name=""/>
            <p:cNvSpPr/>
            <p:nvPr/>
          </p:nvSpPr>
          <p:spPr>
            <a:xfrm>
              <a:off x="1066680" y="2286000"/>
              <a:ext cx="1440360" cy="12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066680" y="2286000"/>
                  <a:ext cx="144720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"/>
          <p:cNvGraphicFramePr/>
          <p:nvPr/>
        </p:nvGraphicFramePr>
        <p:xfrm>
          <a:off x="4495680" y="1447920"/>
          <a:ext cx="4214880" cy="22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21488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57200" y="12193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ndard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733920"/>
            <a:ext cx="3962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fine ten “most typical” cluster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495680" y="4218120"/>
          <a:ext cx="4267440" cy="218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218120"/>
                    <a:ext cx="426744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952880" y="1371600"/>
            <a:ext cx="40388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ster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Determined the sum of the square of distances between each city and the ten cluster cent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9625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4: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each city,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se th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imum distance to a cluster as that’s city’s clu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Minimized the total sum of squared distances using Evolutionary 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29200" y="1447920"/>
          <a:ext cx="3855960" cy="237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385596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80060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igh Price Hot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ed.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o Golf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o Part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1676520"/>
            <a:ext cx="129564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English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igh Air Tra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Small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114800"/>
            <a:ext cx="129564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od. Hotel Pric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ear UNE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Great Weath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114800"/>
            <a:ext cx="129528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Near UNESCO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Party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4114800"/>
            <a:ext cx="1295640" cy="21337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Good Weath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1676520"/>
            <a:ext cx="129564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Air Trave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Moderate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1676520"/>
            <a:ext cx="1295280" cy="213336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Hotel Prices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Verdana"/>
              </a:rPr>
              <a:t>Be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f you liked this trip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Buenos Ai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1600200"/>
            <a:ext cx="1295640" cy="175248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Kuwait 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2057400"/>
            <a:ext cx="129564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Duba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nd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600200"/>
            <a:ext cx="1295280" cy="175248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22">
                <a:moveTo>
                  <a:pt x="3600" y="0"/>
                </a:moveTo>
                <a:arcTo wR="3600" hR="3600" stAng="16200000" swAng="-5400000"/>
                <a:lnTo>
                  <a:pt x="0" y="25622"/>
                </a:lnTo>
                <a:arcTo wR="3600" hR="3600" stAng="10800000" swAng="-5400000"/>
                <a:lnTo>
                  <a:pt x="18000" y="29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Bentonvil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2057400"/>
            <a:ext cx="12952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herry Hi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Anchorag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Zanziba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Floren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6080" y="1600200"/>
            <a:ext cx="1295640" cy="175248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480"/>
              <a:gd name="textAreaBottom" fmla="*/ 1689480 h 175248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Vancouv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2057400"/>
            <a:ext cx="129564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Sydn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Nass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b76"/>
                </a:solidFill>
                <a:latin typeface="Verdana"/>
              </a:rPr>
              <a:t>Mia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ahit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4038480"/>
            <a:ext cx="1295640" cy="17528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0">
                <a:moveTo>
                  <a:pt x="3600" y="0"/>
                </a:moveTo>
                <a:arcTo wR="3600" hR="3600" stAng="16200000" swAng="-5400000"/>
                <a:lnTo>
                  <a:pt x="0" y="25620"/>
                </a:lnTo>
                <a:arcTo wR="3600" hR="3600" stAng="10800000" swAng="-5400000"/>
                <a:lnTo>
                  <a:pt x="18000" y="292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Ho Chi Mi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4495680"/>
            <a:ext cx="129564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pe Tow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Beij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ir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el Aviv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48520" y="4038480"/>
            <a:ext cx="1295280" cy="17528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8">
                <a:moveTo>
                  <a:pt x="3600" y="0"/>
                </a:moveTo>
                <a:arcTo wR="3600" hR="3600" stAng="16200000" swAng="-5400000"/>
                <a:lnTo>
                  <a:pt x="0" y="25628"/>
                </a:lnTo>
                <a:arcTo wR="3600" hR="3600" stAng="10800000" swAng="-5400000"/>
                <a:lnTo>
                  <a:pt x="18000" y="29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agu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4495680"/>
            <a:ext cx="1295280" cy="129564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295640"/>
              <a:gd name="textAreaBottom" fmla="*/ 1232640 h 129564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Moscow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Par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Bangk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Go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038480"/>
            <a:ext cx="1295640" cy="17528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1752840"/>
              <a:gd name="textAreaBottom" fmla="*/ 1689840 h 1752840"/>
            </a:gdLst>
            <a:ahLst/>
            <a:rect l="textAreaLeft" t="textAreaTop" r="textAreaRight" b="textAreaBottom"/>
            <a:pathLst>
              <a:path w="21600" h="29220">
                <a:moveTo>
                  <a:pt x="3600" y="0"/>
                </a:moveTo>
                <a:arcTo wR="3600" hR="3600" stAng="16200000" swAng="-5400000"/>
                <a:lnTo>
                  <a:pt x="0" y="25620"/>
                </a:lnTo>
                <a:arcTo wR="3600" hR="3600" stAng="10800000" swAng="-5400000"/>
                <a:lnTo>
                  <a:pt x="18000" y="292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an Jo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495680"/>
            <a:ext cx="129564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Cancu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Split (Hvar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Athe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76"/>
                </a:solidFill>
                <a:latin typeface="Verdana"/>
              </a:rPr>
              <a:t>Ibiz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600200"/>
            <a:ext cx="14479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u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2209680"/>
            <a:ext cx="144792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Sim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429000"/>
            <a:ext cx="144792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4038480"/>
            <a:ext cx="14479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u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4648320"/>
            <a:ext cx="144792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Sim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b76"/>
                </a:solidFill>
                <a:latin typeface="Verdana"/>
              </a:rPr>
              <a:t>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867280"/>
            <a:ext cx="144792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95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41600"/>
            <a:ext cx="8610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ff just realized he’s afraid of flying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else wants to come on our trip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st be familiar with numbers 1-10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we still go to Sydne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is Sydney so gre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95288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aches, golf, English, partying,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high airfare and mediocre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om for Impro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 list of c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ndardize variable measu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variable is scaled, others are bin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nk beach variable to good wea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 additional vari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: distance from NYC, friends in the area?, restaurant op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world-rmap" descr=""/>
          <p:cNvPicPr/>
          <p:nvPr/>
        </p:nvPicPr>
        <p:blipFill>
          <a:blip r:embed="rId1"/>
          <a:srcRect l="0" t="0" r="0" b="19338"/>
          <a:stretch/>
        </p:blipFill>
        <p:spPr>
          <a:xfrm>
            <a:off x="228600" y="1395360"/>
            <a:ext cx="8686800" cy="3710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8320" y="25146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862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590920"/>
            <a:ext cx="118800" cy="11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6040" y="26668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34290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26240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10040" y="44528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85264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22860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362320"/>
            <a:ext cx="119160" cy="11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3434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70036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1240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28600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057400"/>
            <a:ext cx="11880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124080"/>
            <a:ext cx="1191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udents need to burn more cash before they enter the “real” world.  But where to g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rial Problem Defin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ulation of the Sol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rov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the 10 people in our study, Sydney was the optimal choice for a post-graduation tri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392120" cy="1726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1836720" cy="172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1298520" cy="1731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91320" y="2616120"/>
            <a:ext cx="1238040" cy="1727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315200" y="2610000"/>
            <a:ext cx="1417680" cy="1733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9480" y="47242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best o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ncouver, Nassau, Mi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ern graduates are tired of all the work they’ve had to do for two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need a vacation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considering where to go, the typical student may consider variables such 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ximize subjective benefits from trip while minimizing potential costs and ris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50028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T ticket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tel pri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athe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350028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tying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ESCO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ty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5002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glish-s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aches Near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ulation of th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ision Vari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potential scoring variables/ 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 one can go on more than one tr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veryone must go on the same tr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581280" y="5116680"/>
            <a:ext cx="2590920" cy="1751400"/>
            <a:chOff x="3581280" y="5116680"/>
            <a:chExt cx="2590920" cy="1751400"/>
          </a:xfrm>
        </p:grpSpPr>
        <p:sp>
          <p:nvSpPr>
            <p:cNvPr id="196" name=""/>
            <p:cNvSpPr/>
            <p:nvPr/>
          </p:nvSpPr>
          <p:spPr>
            <a:xfrm>
              <a:off x="3657600" y="5116680"/>
              <a:ext cx="25146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Cost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RT ticket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Hotel pri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5116680"/>
              <a:ext cx="2133720" cy="1066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80880" y="3257640"/>
            <a:ext cx="3200400" cy="2157120"/>
            <a:chOff x="380880" y="3257640"/>
            <a:chExt cx="3200400" cy="2157120"/>
          </a:xfrm>
        </p:grpSpPr>
        <p:sp>
          <p:nvSpPr>
            <p:cNvPr id="199" name=""/>
            <p:cNvSpPr/>
            <p:nvPr/>
          </p:nvSpPr>
          <p:spPr>
            <a:xfrm>
              <a:off x="380880" y="3257640"/>
              <a:ext cx="320040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Amenities/Convenience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Gol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UNESCO World Heritage Si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Beaches nearb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English-speak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3333600"/>
              <a:ext cx="3200400" cy="167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715000" y="3314880"/>
            <a:ext cx="2514600" cy="1594800"/>
            <a:chOff x="5715000" y="3314880"/>
            <a:chExt cx="2514600" cy="1594800"/>
          </a:xfrm>
        </p:grpSpPr>
        <p:sp>
          <p:nvSpPr>
            <p:cNvPr id="202" name=""/>
            <p:cNvSpPr/>
            <p:nvPr/>
          </p:nvSpPr>
          <p:spPr>
            <a:xfrm>
              <a:off x="5715000" y="339840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Verdana"/>
                </a:rPr>
                <a:t>Conditions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Weather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ity Siz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afe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artying Op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5000" y="3314880"/>
              <a:ext cx="2514600" cy="159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V="1">
            <a:off x="3809880" y="419112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1: All the travelers determine their preferences among 10 varia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2928960"/>
            <a:ext cx="88394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4038480"/>
            <a:ext cx="89917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2: For each traveler, we multiplied their preferences against the variables assigned to each city to come up with each person’s total score for every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2080" y="4191120"/>
            <a:ext cx="88056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4191120"/>
            <a:ext cx="8763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 3: We added up each traveler’s scores to get a Total Score for each 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4314960"/>
            <a:ext cx="86104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0:09:56Z</dcterms:created>
  <dc:creator>Stern School of Business</dc:creator>
  <dc:description/>
  <dc:language>en-US</dc:language>
  <cp:lastModifiedBy>Stern School of Business</cp:lastModifiedBy>
  <dcterms:modified xsi:type="dcterms:W3CDTF">2005-05-02T17:07:43Z</dcterms:modified>
  <cp:revision>38</cp:revision>
  <dc:subject/>
  <dc:title>How to Optimize A Stern Graduate’s Summer Break</dc:title>
</cp:coreProperties>
</file>